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A7BB-F33E-484F-96F4-377DF2FB1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2769-3FC4-40EA-BC85-BB8FACA85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7900-711E-4F7C-9AC4-E0F8967E4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9FF4-BAA2-4B08-88ED-D572D9D0A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101D-8054-4D9E-BF5E-1E6CADBAA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1DC1-D21E-4060-9FE6-7657F8F79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71CE-30D1-4F03-909C-4CE4FF2CC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A76E-AD5B-41AF-8811-343F358DB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425D-C006-4B45-8620-E58139006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3CE2-F79B-4CFA-B93B-6139F0520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692F-6A9E-4719-B352-3EEE9F8A9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01D1-33BA-4FCE-BC16-674DEBE5A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5ED4-C381-4189-96C4-BAE50A1D7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B660-A5AD-4A9D-B19D-A4C161EA3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513E-4152-4C71-A808-71859699E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1117-E64D-4352-A45D-A51BA32FE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CC20-B0AC-4C82-B9A7-61CA878F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42CA-C8DC-4E0C-9584-6048E548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4BBF6-3DF3-4A4C-93C7-F762E3A0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171AF-8CF0-4A44-B723-22DA180F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60973-107D-4FFD-B34E-DABF5543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0F4AF-E698-4912-9725-E8BDEC9D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19DD2-8F25-4FFD-AF6A-280C5C62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7F8DE-29F5-42C4-AA04-937C07FA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B3A66-2740-4920-BE0F-FF29B192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B44A2-63B7-43CD-B69E-1DE556D9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6F7EC-A02D-4CF7-87DB-37C46548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BA5A9-49A4-4FFD-ACB4-1A6FE4A0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DC9B-A864-40C1-AC3C-C21F03CC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20743-396C-476C-8A93-1E6E5222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A1885-65A0-49C0-9336-269B8461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D93CF-EBB2-49BF-8B79-C6EF0059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26C04-32F2-4E96-AE29-27DCAE96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2C18F-9917-4BE8-9FE7-E5D5439E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CE280-9596-4DC8-81CE-CC883C91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0384D-17C8-4DDF-ABB2-77881E59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B897F-8976-4BBB-A1DE-66AFD924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5DFFA-C17F-4587-B115-F486E3F9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3DC86-0C7C-428F-9EC2-79A321B8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61DB-D8E3-48F4-A6A6-966E35C4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BB07E-9BD4-4562-8715-D6E8F5D9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9ECAB-2772-41E4-82E4-FB0EF91B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1DBF9-68B2-4654-A16E-70B1320E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BE1A0-08C1-48D6-8EEF-A61CD38A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07601-D89F-4847-A2AE-A155D397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62880-52DF-416B-A662-E80830B9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6FF58-5EAD-4C6B-B466-6662482A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FA2E4-823F-4FBE-9CC8-84EE5198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39290-66D2-4B93-BFEC-0B2378EB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57B80-7D0B-4C0F-B4D1-3734B751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A86C-BDA8-4A42-966F-3395AF2CC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F1B78-4FBC-4FA5-8D83-95BCF8AA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4148F-58BE-4D91-9B87-676DC905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7D27E-1D03-472A-8904-D966635D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F8FAB-47FD-4083-85C5-F54E0A00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EACED-1030-4E86-BACC-2DDCBF86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EDCA1-848A-44D4-ACCA-1D77EC1C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DF7F6-6371-4162-98E0-C53000DF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B8821E-2DC2-4565-B8F6-BC2989B2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AB3C2-92C7-4A38-9C16-FCA9720B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F2850-BB30-416F-A55E-2F83B742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EE33-6CD4-4F7C-A078-533B5770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91A8F-579D-4265-A4B6-211D2A7F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A5861-24EF-4014-AA6C-B022A030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8A899-227B-4EAA-B3F7-328EBB81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20CA3-F4EB-4C38-9520-90648711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CC600-9248-4BC9-9BDB-EAF93E36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B4B7-7745-4D5E-ACD9-6498A6BD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5810-09DA-45A3-A837-254F50FF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53C2-E35E-471F-8A66-B8C89B52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F017-24F4-4BE8-89F7-E81A51B4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57C6-2AC0-4874-A445-FC3537D0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6F46-8A83-4236-90C9-CA2A348D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8E4E-4E07-4761-95A8-8ACD6852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1107-451E-4C01-AA45-75DEDE5F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402D-BCDC-4389-B2C8-3C029F58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1279-02DA-4815-97AB-87040909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B080-3A36-4401-9ACA-DF2C9F35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B1F6F-3187-4BD6-8226-C9D5F702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BD376-290F-4CA9-BF30-2DB3A991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71A11-D412-46D0-BE7F-DD206697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5483B-93AE-418C-B4FE-4B82EE49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2AC48-8DCB-42B0-8D3D-07999234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4A1A-0CD7-4C16-807E-87FE1208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3376D-2CCE-47E1-A339-AACFE423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DD782-8671-4D0D-BC84-373327AC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1AF2D-316F-4363-9E60-F41F8AAA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BAB5D-B065-4D38-A4C2-BC840949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CDA5E-F236-47CD-B7F6-803423DB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3D4AD-B5C7-411D-A70F-FE6DF1B7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DCFA9-0B5B-49CE-8541-31D20F15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D5124-1B6E-4115-A45D-DBA06870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F708E-DAA4-4DCC-AED0-E047DC60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C3370-9C3F-40BC-A4FC-B41A86AA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021B-4817-410F-A9AA-E48BAB4E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D0647-43DE-436F-864B-7E3F3169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C758A-41FB-4EE0-912D-F3AB49E6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63CFA-1548-479B-9273-5251FC3C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63E39-A094-425E-A51D-7DA1DA0C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D9B4C-4EFB-47A7-AD19-716790BF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53E01-288E-4C5B-BE87-8D2C2C66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F3223-B6D2-4039-9362-8DD0ADDC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CED2A-3837-46BC-BAFF-D0EC4001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DFF1B-A2DC-4EDD-9426-6C01AA14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A4407-4BF5-44A6-8D0B-198FA664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D508-A800-4271-BAEB-501B8AEC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B2E08-437F-4D02-9054-0119ACDB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B134C-19C9-4876-8135-43B60038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2C848-1808-4CA7-8099-14FDF497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85AA0-33C2-4DF4-ADCB-69C66D9A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3DA8F-54E3-49BB-A8D0-5E39782B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A37F1-6919-4C35-A631-4BA26032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3C1FB-9A8C-477B-BA51-0AB389D9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3F5B5-DA16-4003-90A8-8BAC0F84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24B2C-E37E-46F7-9757-43BEC24A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FB776-E65F-4F99-901D-2E82C429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6B0F-80CC-476C-A952-D419462A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34749-FF3C-4B62-87C9-FC6B2D83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A2320-FDE4-4A85-9B00-E959D1E8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F54E3-914F-422A-B4E9-650DD979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99195-9766-4D2C-816D-3DE8A0E7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03DAD-6370-486E-A8FC-2F815CF4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4C787-6B32-486D-9FE7-C06E8793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94375-D0A9-469E-9E71-A60600CF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44B85-5F7B-4368-828F-1D5AF4B0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1C55C-D248-4725-B48D-F0A084C0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C0CAA-A067-4BF3-A71E-DABD6DE8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2ECF-1881-4CF4-887E-2A932AC6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E00D3-5CBE-4173-A826-F7FB67EB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F933B-789D-45D2-BE5A-384B5F3F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5DB0C-0411-4D5F-BBF2-285F15DB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6B972-121B-4C6C-ADFD-0677E1D6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E11BE-03DD-4C54-B962-009FE6F1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06CFA-DC47-4523-BC8E-EF11F175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612E0-078D-4D18-892B-C703BCBF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1ACB9-261C-4882-85D8-1978C419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462B5-A644-4607-840A-53D30B1E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32D75-BD23-4620-86E0-1B4CE425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3A56-D5C3-4D4B-A59A-95E0F9D1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5E8CC-376A-4FFC-87FD-DD157EA2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1A98A-BF76-4DA3-950C-5CF3E107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6A2C7-7E5B-4E62-8FA0-13D6092E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C6520-7335-4DF0-BBB4-9647C367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14E6B-7269-4E68-891C-4F1A9CDD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8B98F-7135-4B2C-A3BB-E3EE476D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C805F-552F-492A-9AA0-B910D1CD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3A5AE-E4D5-4A87-9FA7-72553D37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FFD5C-25FF-45A3-B903-863484F2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14CE5-82DC-4A1C-BE6D-C5E31175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9FA7-B3C4-4935-928D-CCD0AADC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5F0F5-2A62-45C9-B7EE-E744E2D2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EDB9F-5333-42D2-B80E-711ECF5A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E009F-7436-4657-80C0-F414794E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7A696-3D89-4629-B2B3-C44490A6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88C92-581F-4861-B26E-39CE5103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2E5B5-AB05-4090-BD8F-ADA4E6A5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D38DB-CCE3-487A-A241-934E462A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8B3C8-77EE-4E9B-85F9-D108B043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6DA24-D706-41DA-AEAB-8A1E8A9E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96D2A-4984-4246-A48C-3FD76659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BB00-9CC5-4593-8981-EBE90B1BD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A201-0ACB-4C0A-A717-1291293BC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5C7E-D61B-4C94-BD95-FE5C52329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F984-509D-40FF-AED4-0849AD78F8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70A2-1935-495F-9B75-69C0E133B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5307-9335-4A1C-8DC4-41F6E1AD5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0C82-11DB-44F2-AF02-87F446311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0E9F-97C2-423D-A46E-D2C4F8C07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F288-6B9A-4D3E-9BA8-71D62123BA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A11D-3F4E-4C4E-8F3C-7148AC35D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983B-22B4-44E9-9C18-3250D554F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EB90-E2D6-4877-BB2E-E69C2B1E5F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pHSVZJhxJQ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765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ball Trip Optim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236232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mor Bar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n Bl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isa Gar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ke Li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son Schwart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ett Za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ting up Crystal 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2" descr=""/>
          <p:cNvPicPr/>
          <p:nvPr/>
        </p:nvPicPr>
        <p:blipFill>
          <a:blip r:embed="rId1"/>
          <a:stretch/>
        </p:blipFill>
        <p:spPr>
          <a:xfrm>
            <a:off x="2316240" y="1523880"/>
            <a:ext cx="6827760" cy="23115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6" descr=""/>
          <p:cNvPicPr/>
          <p:nvPr/>
        </p:nvPicPr>
        <p:blipFill>
          <a:blip r:embed="rId2"/>
          <a:stretch/>
        </p:blipFill>
        <p:spPr>
          <a:xfrm>
            <a:off x="2438280" y="3962520"/>
            <a:ext cx="61390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: Three Mets G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243792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% probability Jake exceeds $7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8 nights in hot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4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56293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: Two Mets G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24382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 10% probability Jake exceeds $7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2 nights in hot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9" name="Picture 6" descr=""/>
          <p:cNvPicPr/>
          <p:nvPr/>
        </p:nvPicPr>
        <p:blipFill>
          <a:blip r:embed="rId1"/>
          <a:stretch/>
        </p:blipFill>
        <p:spPr>
          <a:xfrm>
            <a:off x="2776680" y="2786040"/>
            <a:ext cx="58338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: One Met G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320560" y="1600200"/>
            <a:ext cx="682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ake will stay under his $7k budg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2 nights in hotels + $1500 NYC expen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Picture 3" descr=""/>
          <p:cNvPicPr/>
          <p:nvPr/>
        </p:nvPicPr>
        <p:blipFill>
          <a:blip r:embed="rId1"/>
          <a:stretch/>
        </p:blipFill>
        <p:spPr>
          <a:xfrm>
            <a:off x="2743200" y="2819520"/>
            <a:ext cx="5967360" cy="38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437920" y="1599840"/>
            <a:ext cx="6248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hould Jake 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--- 2 Game Solution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4" descr="C:\Documents and Settings\Brett Zager\Local Settings\Temporary Internet Files\Content.Outlook\56MRLKON\DSC01638.JPG"/>
          <p:cNvPicPr/>
          <p:nvPr/>
        </p:nvPicPr>
        <p:blipFill>
          <a:blip r:embed="rId1"/>
          <a:stretch/>
        </p:blipFill>
        <p:spPr>
          <a:xfrm>
            <a:off x="3200400" y="23623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7524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24382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Jake is planning a two-month road trip to see the 10 US Baseball stadiums he has not yet visit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s a die hard Mets fan, Jake would love to see them play when/where possibl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Jake is afraid of flying and has subletted his NYC apartment (no going back!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Jake plans to spend his $5000 graduation present and $2000 from his own pocket on the trip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2209320" y="1600200"/>
            <a:ext cx="723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broke the project into two par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rmining the optimal driving ro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rmining the optimal cost of the trip based on Jakes preferences/limi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mal Driving Ro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23623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 Function:  Find the best driving route based on lowest total mileage to go to all 10 stadiu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mal Driving Ro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243792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ision Variables: travel ro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rcRect l="0" t="21007" r="45972" b="41315"/>
          <a:stretch/>
        </p:blipFill>
        <p:spPr>
          <a:xfrm>
            <a:off x="2514600" y="2438280"/>
            <a:ext cx="64674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mal Driving Ro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22856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ai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 to each stadium exactly o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going back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dded in constraints to avoid ‘loops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lso used the “large” numbers for plugs as distance between each stadium and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mal Driving Ro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981080" y="13716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,632 m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5" name="Group 3"/>
          <p:cNvGrpSpPr/>
          <p:nvPr/>
        </p:nvGrpSpPr>
        <p:grpSpPr>
          <a:xfrm>
            <a:off x="2590920" y="2438280"/>
            <a:ext cx="6294240" cy="4114800"/>
            <a:chOff x="2590920" y="2438280"/>
            <a:chExt cx="6294240" cy="4114800"/>
          </a:xfrm>
        </p:grpSpPr>
        <p:pic>
          <p:nvPicPr>
            <p:cNvPr id="526" name="Picture 3" descr=""/>
            <p:cNvPicPr/>
            <p:nvPr/>
          </p:nvPicPr>
          <p:blipFill>
            <a:blip r:embed="rId1"/>
            <a:stretch/>
          </p:blipFill>
          <p:spPr>
            <a:xfrm>
              <a:off x="2590920" y="2438280"/>
              <a:ext cx="61333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TextBox 5"/>
            <p:cNvSpPr/>
            <p:nvPr/>
          </p:nvSpPr>
          <p:spPr>
            <a:xfrm>
              <a:off x="8077320" y="3774960"/>
              <a:ext cx="807840" cy="3070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Yanke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Box 6"/>
            <p:cNvSpPr/>
            <p:nvPr/>
          </p:nvSpPr>
          <p:spPr>
            <a:xfrm>
              <a:off x="7407360" y="5041800"/>
              <a:ext cx="715680" cy="3070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Bra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7"/>
            <p:cNvSpPr/>
            <p:nvPr/>
          </p:nvSpPr>
          <p:spPr>
            <a:xfrm>
              <a:off x="7539120" y="6097680"/>
              <a:ext cx="842760" cy="3070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Marl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8"/>
            <p:cNvSpPr/>
            <p:nvPr/>
          </p:nvSpPr>
          <p:spPr>
            <a:xfrm>
              <a:off x="6040440" y="3985920"/>
              <a:ext cx="911160" cy="3070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ardin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9"/>
            <p:cNvSpPr/>
            <p:nvPr/>
          </p:nvSpPr>
          <p:spPr>
            <a:xfrm>
              <a:off x="3048120" y="4549680"/>
              <a:ext cx="1363680" cy="3070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Diamondbac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10"/>
            <p:cNvSpPr/>
            <p:nvPr/>
          </p:nvSpPr>
          <p:spPr>
            <a:xfrm>
              <a:off x="3567240" y="5041800"/>
              <a:ext cx="911160" cy="3070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Rock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11"/>
            <p:cNvSpPr/>
            <p:nvPr/>
          </p:nvSpPr>
          <p:spPr>
            <a:xfrm>
              <a:off x="7081920" y="5533920"/>
              <a:ext cx="715680" cy="52020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Tampa B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12"/>
            <p:cNvSpPr/>
            <p:nvPr/>
          </p:nvSpPr>
          <p:spPr>
            <a:xfrm>
              <a:off x="6934320" y="3071520"/>
              <a:ext cx="1011240" cy="3070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Blue Jay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13"/>
            <p:cNvSpPr/>
            <p:nvPr/>
          </p:nvSpPr>
          <p:spPr>
            <a:xfrm>
              <a:off x="5259240" y="4338360"/>
              <a:ext cx="715680" cy="3070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Roy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14"/>
            <p:cNvSpPr/>
            <p:nvPr/>
          </p:nvSpPr>
          <p:spPr>
            <a:xfrm>
              <a:off x="5194440" y="3141360"/>
              <a:ext cx="715680" cy="3070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Tw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7" name="Straight Arrow Connector 15"/>
            <p:cNvCxnSpPr>
              <a:stCxn id="529" idx="1"/>
              <a:endCxn id="533" idx="2"/>
            </p:cNvCxnSpPr>
            <p:nvPr/>
          </p:nvCxnSpPr>
          <p:spPr>
            <a:xfrm flipH="1" flipV="1">
              <a:off x="7440120" y="6017760"/>
              <a:ext cx="99000" cy="234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38" name="Straight Arrow Connector 16"/>
            <p:cNvCxnSpPr>
              <a:stCxn id="527" idx="3"/>
              <a:endCxn id="529" idx="0"/>
            </p:cNvCxnSpPr>
            <p:nvPr/>
          </p:nvCxnSpPr>
          <p:spPr>
            <a:xfrm flipH="1">
              <a:off x="7959600" y="3929040"/>
              <a:ext cx="925920" cy="216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39" name="Straight Arrow Connector 17"/>
            <p:cNvCxnSpPr>
              <a:stCxn id="533" idx="0"/>
              <a:endCxn id="528" idx="2"/>
            </p:cNvCxnSpPr>
            <p:nvPr/>
          </p:nvCxnSpPr>
          <p:spPr>
            <a:xfrm flipV="1">
              <a:off x="7439040" y="5325120"/>
              <a:ext cx="326160" cy="208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40" name="Straight Arrow Connector 18"/>
            <p:cNvCxnSpPr>
              <a:stCxn id="528" idx="1"/>
              <a:endCxn id="531" idx="3"/>
            </p:cNvCxnSpPr>
            <p:nvPr/>
          </p:nvCxnSpPr>
          <p:spPr>
            <a:xfrm flipH="1" flipV="1">
              <a:off x="4411080" y="4703040"/>
              <a:ext cx="2996280" cy="479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41" name="Straight Arrow Connector 19"/>
            <p:cNvCxnSpPr>
              <a:stCxn id="531" idx="2"/>
              <a:endCxn id="532" idx="0"/>
            </p:cNvCxnSpPr>
            <p:nvPr/>
          </p:nvCxnSpPr>
          <p:spPr>
            <a:xfrm>
              <a:off x="3729600" y="4857480"/>
              <a:ext cx="292680" cy="1846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42" name="Straight Arrow Connector 20"/>
            <p:cNvCxnSpPr>
              <a:stCxn id="532" idx="3"/>
              <a:endCxn id="536" idx="1"/>
            </p:cNvCxnSpPr>
            <p:nvPr/>
          </p:nvCxnSpPr>
          <p:spPr>
            <a:xfrm flipV="1">
              <a:off x="4478400" y="3283920"/>
              <a:ext cx="716400" cy="189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43" name="Straight Arrow Connector 21"/>
            <p:cNvCxnSpPr>
              <a:stCxn id="536" idx="2"/>
              <a:endCxn id="535" idx="0"/>
            </p:cNvCxnSpPr>
            <p:nvPr/>
          </p:nvCxnSpPr>
          <p:spPr>
            <a:xfrm>
              <a:off x="5551560" y="3425400"/>
              <a:ext cx="65520" cy="9133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44" name="Straight Arrow Connector 22"/>
            <p:cNvCxnSpPr>
              <a:stCxn id="535" idx="3"/>
              <a:endCxn id="530" idx="2"/>
            </p:cNvCxnSpPr>
            <p:nvPr/>
          </p:nvCxnSpPr>
          <p:spPr>
            <a:xfrm flipV="1">
              <a:off x="5975280" y="4269960"/>
              <a:ext cx="521280" cy="210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45" name="Straight Arrow Connector 23"/>
            <p:cNvCxnSpPr>
              <a:stCxn id="530" idx="0"/>
              <a:endCxn id="534" idx="2"/>
            </p:cNvCxnSpPr>
            <p:nvPr/>
          </p:nvCxnSpPr>
          <p:spPr>
            <a:xfrm flipV="1">
              <a:off x="6495120" y="3379320"/>
              <a:ext cx="943560" cy="6069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46" name="Straight Arrow Connector 24"/>
            <p:cNvCxnSpPr>
              <a:stCxn id="534" idx="3"/>
              <a:endCxn id="527" idx="0"/>
            </p:cNvCxnSpPr>
            <p:nvPr/>
          </p:nvCxnSpPr>
          <p:spPr>
            <a:xfrm>
              <a:off x="7945560" y="3225240"/>
              <a:ext cx="535680" cy="549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mal Cost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243792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:  Get a good estimate for the cost of the trip so Jake can budget his $7000 according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ing back to Jake’s love for the Mets, we factored in a $500 utility for each Mets ga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ke also enjoys cold beer and hot dogs while at the g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mal Cost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2438280" y="1600200"/>
            <a:ext cx="65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ndom Variabl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as costs – Based on a normal distribution of weekly national prices the past 6 month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tel costs – Based on individual distributions for each c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xed cost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$50 for each ga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ecast Item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tal Co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03:27:25Z</dcterms:created>
  <dc:creator>limor barack</dc:creator>
  <dc:description/>
  <dc:language>en-US</dc:language>
  <cp:lastModifiedBy>Brett Zager</cp:lastModifiedBy>
  <dcterms:modified xsi:type="dcterms:W3CDTF">2009-04-27T14:07:55Z</dcterms:modified>
  <cp:revision>17</cp:revision>
  <dc:subject/>
  <dc:title>Slide 1</dc:title>
</cp:coreProperties>
</file>